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7D6-1872-411C-82AA-CA28C80F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706-19C1-4597-8534-94B3F7D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51A-ABC6-4F92-AA84-A476056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C07-0299-4571-B116-C3D68BD8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ADD3-694A-4EAB-B6D2-0A40E41B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E61-D519-4360-A86E-3F027C6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5132-CB6E-47F4-AE37-53F61364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5845-E4FA-4602-A7DD-F404A08D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8BE1-AF91-45A6-A1CF-ABDC349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DE5-28B4-4749-BDDC-1288C643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5CC-AC26-4ACF-A0A8-007A8426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74A-B862-47ED-A830-735D4F0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42F7-7FF7-4E90-8B46-031BDE55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407E-9CC3-4F16-9A77-8C7AD25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5F93-B651-42EC-8E4F-7400DC67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01E2-10FB-496E-AE0C-E40D3105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6552-5567-4D73-B8E4-A3737DBF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FD50A-CFE3-46FF-9249-5A7F53BD60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AE09C-53C6-4C0C-A71D-53FB5A1F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F0AD9-9CE6-4728-BFBE-8007EFE5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F0F29-FF60-433A-BFF8-C2545B6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616C1-36BB-4A7A-9595-48E47941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9A2-731F-43DE-94FE-DE20F67E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55173-0469-4ADB-BFF8-4C70A206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5EBCF-6D4F-4513-AF70-33A409E5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51C39-E2C3-4A7B-AD8F-3C08BD6B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ACFEF-66B2-4D7F-B2B8-32730F36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46D82-BFE0-4D5F-A4F1-A7739A4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75A7B-28F9-4CC1-8D52-FB47C2CF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000A7-F90F-4B8D-B5BD-05AB1CCC3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EAF-8D0A-46E7-B8E7-78D8130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387-910C-456D-9E3A-572EC3A7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DD6-BBC3-4AB9-8F38-8D7FD9F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48C-0B61-43D3-AB76-C2F0B49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CFD-DE5D-4908-A073-6584081D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510-0276-4548-96F6-A512EB34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F349-4376-42CA-B3CC-9A0B9550A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360" y="7174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2068560"/>
            <a:ext cx="82789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BB7D-42ED-46DB-941C-058FB5D67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876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58360" y="6467400"/>
            <a:ext cx="1106280" cy="93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3280" y="7054920"/>
            <a:ext cx="8155080" cy="1440"/>
          </a:xfrm>
          <a:prstGeom prst="line">
            <a:avLst/>
          </a:prstGeom>
          <a:ln w="6480">
            <a:solidFill>
              <a:srgbClr val="0049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7056360"/>
            <a:ext cx="51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OR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I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NSPIRATION AND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R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OGNITION OF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IENCE AND </a:t>
            </a:r>
            <a:r>
              <a:rPr b="1" i="1" lang="en-US" sz="1200" spc="-1" strike="noStrike">
                <a:solidFill>
                  <a:srgbClr val="b50e20"/>
                </a:solidFill>
                <a:latin typeface="Arial Narrow"/>
                <a:ea typeface="Arial Narrow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ECHN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336600" cy="336600"/>
          </a:xfrm>
          <a:prstGeom prst="rect">
            <a:avLst/>
          </a:prstGeom>
          <a:solidFill>
            <a:srgbClr val="ec9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204040" y="260280"/>
            <a:ext cx="1874880" cy="4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f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02920" y="168120"/>
            <a:ext cx="90709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1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800" spc="-1" strike="noStrike">
                <a:solidFill>
                  <a:srgbClr val="8a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8a8989"/>
                </a:solidFill>
                <a:latin typeface="Calibri"/>
                <a:ea typeface="Lucida Sans Unicode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44600" y="6954840"/>
            <a:ext cx="24354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7725960" y="7156440"/>
            <a:ext cx="23511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a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12D6F-7DCE-4299-A9F5-849764FBD627}" type="slidenum">
              <a:rPr b="0" lang="en-US" sz="1200" spc="-1" strike="noStrike">
                <a:solidFill>
                  <a:srgbClr val="8a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usfirst.org/roboticsprograms/frc/2012-kit-of-parts-control-system" TargetMode="External"/><Relationship Id="rId3" Type="http://schemas.openxmlformats.org/officeDocument/2006/relationships/hyperlink" Target="http://first.wpi.edu/Images/CMS/First/WPI_Robotics_Library_Users_Guide.pdf" TargetMode="External"/><Relationship Id="rId4" Type="http://schemas.openxmlformats.org/officeDocument/2006/relationships/hyperlink" Target="http://firstforge.wpi.edu/sf/docman/do/listDocuments/projects.wpilib/docman.root.c_and_java_documentation" TargetMode="External"/><Relationship Id="rId5" Type="http://schemas.openxmlformats.org/officeDocument/2006/relationships/hyperlink" Target="https://decibel.ni.com/content/community/first/frc?view=documents#/?page=2" TargetMode="External"/><Relationship Id="rId6" Type="http://schemas.openxmlformats.org/officeDocument/2006/relationships/hyperlink" Target="http://www.chiefdelphi.com/forums/forumdisplay.php?f=51" TargetMode="External"/><Relationship Id="rId7" Type="http://schemas.openxmlformats.org/officeDocument/2006/relationships/hyperlink" Target="http://ncfrcteams.wikispaces.com/" TargetMode="External"/><Relationship Id="rId8" Type="http://schemas.openxmlformats.org/officeDocument/2006/relationships/hyperlink" Target="http://groups.yahoo.com/group/ncfrcteams/" TargetMode="External"/><Relationship Id="rId9" Type="http://schemas.openxmlformats.org/officeDocument/2006/relationships/hyperlink" Target="https://my.usfirst.org/myarea/index.lasso?page=searchresults&amp;omit_searchform=1&amp;results_size=250&amp;-session=myarea:C77D64051d9182C44AKkKs3C67D6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troduction, and a comparison of Java, C++ and Lab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David Page (dwpage@gmail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them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RobotTemplate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MyRobot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 instead of tex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s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tu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trument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inee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b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in engineering and scientific lab work along with industrial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National Instruments – same company who makes the c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thora of FRC cod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view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attached labview_vis.z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092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credits to WPI and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2012 FRC Control System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PI_Robotics_Library_Users_Guid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PI First F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 FRC Labview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Chief Delphi Programming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C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NC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Your Other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I Robotic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vs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28600" y="1380960"/>
            <a:ext cx="952488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96012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Sen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937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5680" y="1512720"/>
            <a:ext cx="9915480" cy="45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21000" y="103320"/>
            <a:ext cx="4827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I Actu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28720" y="1846440"/>
            <a:ext cx="84297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25524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/C++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– separates it from the ol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syntax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of the most popular programm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2373480" cy="797040"/>
          </a:xfrm>
          <a:prstGeom prst="rect">
            <a:avLst/>
          </a:prstGeom>
          <a:solidFill>
            <a:srgbClr val="004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2600" y="220680"/>
            <a:ext cx="1819080" cy="142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0" y="0"/>
            <a:ext cx="4827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/C++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5943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00:33:52Z</dcterms:created>
  <dc:creator/>
  <dc:description/>
  <dc:language>en-US</dc:language>
  <cp:lastModifiedBy/>
  <dcterms:modified xsi:type="dcterms:W3CDTF">2012-12-11T23:56:45Z</dcterms:modified>
  <cp:revision>13</cp:revision>
  <dc:subject/>
  <dc:title/>
</cp:coreProperties>
</file>